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0A87-704C-4A28-A2F0-BEC0A2CE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7C5-FEF8-490F-B358-D32CF94F8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32D9-62EB-4287-90E4-A7D9E4A6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724B-961F-4728-8859-10191C3D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E326-22AC-4F7D-945F-6913474B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CADF-8E3A-49DD-B630-DDEA6C5C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4CFA-45F2-4A95-9D22-32748E8E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754E-8434-4DC3-AF57-883F332B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426E-1BA3-4531-8CDC-E2C29622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61835-E42F-4BE8-8CD3-2936B7B0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8EF8-1D8E-4FD3-B141-1907A343C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6DE9-772B-41A3-8D1D-AD4A1028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1F42-2144-464C-B935-8381FC27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5667-3D28-4F65-B871-B23F7D8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001F-ABE7-4356-BE87-6EB347D58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CFEF5-FD1C-4BDA-85B4-728CC802C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4D5F-B231-4D6A-AAD4-44897FDCE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21CA-5B2E-4C1C-982E-FAB4BF39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95EB-614F-462E-A8EF-4C2621C2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7281-10E1-430B-919C-51A3AB46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E79B-3E17-440B-9F7E-FD7E2423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F356-C85B-4D85-BF5C-D086320B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FD3F-3BE8-4B9F-9B95-BC86A670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F77-503B-4559-8658-4A904FA3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CEB8-83AD-4263-9335-4DAF4CAB7E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A468-7E29-46B0-8976-C7730680C0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mdb.com/rg/mediaindex/thumbnail/media/rm3146356992/tt0083866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images.google.com/imgres?imgurl=http://www.mcbridewesternwear.com/images/Waving_American_Flag.jpg&amp;imgrefurl=http://www.mcbridewesternwear.com/index.php%3Fmain_page%3Dindex%26cPath%3D78&amp;usg=__UFFuQuZan8shiAODarTVSxmHcmw=&amp;h=547&amp;w=877&amp;sz=587&amp;hl=en&amp;start=15&amp;um=1&amp;tbnid=PumArnNmoiNuAM:&amp;tbnh=91&amp;tbnw=146&amp;prev=/images%3Fq%3Damerican%2Bflag%26hl%3Den%26safe%3Dactive%26rls%3Dcom.microsoft:en-us%26um%3D1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b2b2b2"/>
                </a:solidFill>
                <a:latin typeface="Arial"/>
              </a:rPr>
              <a:t>REMEMBER E.T.?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b2b2b2"/>
                </a:solidFill>
                <a:latin typeface="Arial"/>
              </a:rPr>
              <a:t>Of all the places in the world…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66640" y="790560"/>
            <a:ext cx="8010720" cy="5276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IRLS WILL BE GIR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-22860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Mother</a:t>
            </a:r>
            <a:br>
              <a:rPr sz="44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Masculine Traits</a:t>
            </a:r>
            <a:r>
              <a:rPr b="0" lang="en-US" sz="2800" spc="-1" strike="noStrike">
                <a:solidFill>
                  <a:srgbClr val="b2b2b2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Feminine Traits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756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riar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works a full time jo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urturing and attentive to the children’s need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rtive- She is the boss of the household and the children, strong and in char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cries a lot in the film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sad about her husband leaving, but she is selfless, and she empathizes with her children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53352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haracterize Gertie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sitive, loving, caring, needy plays with dolls, plays dress up with E.T., matriarch in training, bows in her hair, baby si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4162320" cy="2438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724280" y="1447920"/>
            <a:ext cx="396252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tudent Activiti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t a character  from the film. Choose specific scenes from the film that show the gender roles and expectation assigned to the charac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re was a father figure in the film, what do you think he would be lik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how the gender roles depicted in the film are related to American Cul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ny gender characteristics are depicted in the fil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chael and Gertie have more distinct qualities of male and female ge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 and Elliot are more neutral gendered; their roles transcend those that society has assigned to th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omething to think about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Gender is E.T.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581280" y="2666880"/>
            <a:ext cx="2248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ff"/>
                </a:solidFill>
                <a:latin typeface="Arial"/>
              </a:rPr>
              <a:t>What can we conclude about E.T.’s culture and life on his planet of origin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819520" y="281952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62012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E.T. Landed in the U.S.A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388584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he was bombarded with culture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6" descr="et"/>
          <p:cNvPicPr/>
          <p:nvPr/>
        </p:nvPicPr>
        <p:blipFill>
          <a:blip r:embed="rId1"/>
          <a:stretch/>
        </p:blipFill>
        <p:spPr>
          <a:xfrm>
            <a:off x="1295280" y="137160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1" descr="et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590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52"/>
          <p:cNvSpPr/>
          <p:nvPr/>
        </p:nvSpPr>
        <p:spPr>
          <a:xfrm>
            <a:off x="2286000" y="4876920"/>
            <a:ext cx="45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4" descr="Waving_American_Fla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4648320"/>
            <a:ext cx="35812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381880" cy="1474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ese’s Pieces, Toys, and Love…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are these things indicators of culture?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11" descr="reeses-pieces"/>
          <p:cNvPicPr/>
          <p:nvPr/>
        </p:nvPicPr>
        <p:blipFill>
          <a:blip r:embed="rId1"/>
          <a:stretch/>
        </p:blipFill>
        <p:spPr>
          <a:xfrm>
            <a:off x="228600" y="198108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E.T. hugs Elliott ( Henry Thomas ) in Universal's E.T. The Extra-Terrestrial"/>
          <p:cNvPicPr/>
          <p:nvPr/>
        </p:nvPicPr>
        <p:blipFill>
          <a:blip r:embed="rId2"/>
          <a:stretch/>
        </p:blipFill>
        <p:spPr>
          <a:xfrm>
            <a:off x="380880" y="4495680"/>
            <a:ext cx="3886200" cy="2210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et3"/>
          <p:cNvPicPr/>
          <p:nvPr/>
        </p:nvPicPr>
        <p:blipFill>
          <a:blip r:embed="rId3"/>
          <a:stretch/>
        </p:blipFill>
        <p:spPr>
          <a:xfrm>
            <a:off x="5334120" y="3533760"/>
            <a:ext cx="3809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Reese’s Pieces, Toys, and Love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ow can these be considered indicators of American Cultur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universal about these thing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7692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ACTIVITY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: Select a specific scene from the film that exhibits elements of American Cult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Thought questions for stude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been over 25 years since the film was made; if a new modern version were produced today, how do you think it would be different from the origin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has American culture changed since the film was made in 1982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is American culture still the same as it was 25 years ago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How are Gender Roles Depicted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in the film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suggests that in society, certain qualities are assigned to males and other qualities assigned to females (Gender Stereotypes). For exampl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N ARE STRONG AND T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MEN ARE MEEK AND EMOT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nalyze examples of Gender Stereotypes in the fil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OYS WILL BE BOYS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00800" cy="48006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15238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T What does that mea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pictions of Masculinity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20" name="Organization Chart 7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21" name="_s1028"/>
            <p:cNvCxnSpPr>
              <a:stCxn id="122" idx="0"/>
              <a:endCxn id="123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4" name="_s1029"/>
            <p:cNvCxnSpPr>
              <a:stCxn id="125" idx="0"/>
              <a:endCxn id="123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6" name="_s1030"/>
            <p:cNvCxnSpPr>
              <a:stCxn id="127" idx="0"/>
              <a:endCxn id="123" idx="2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12713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3" name="_s1031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ichae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older broth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enager in high schoo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eginning to driv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ldest of thre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_s1032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Tough Guy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ootball play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eases his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nger siblings 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_s1033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 Of the hou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ather abandoned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he famil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034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lpha Mal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aves E.T.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hen he is dying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the woo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What About Elliot? </a:t>
            </a:r>
            <a:br>
              <a:rPr sz="40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utral Gendered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Rectangle 11" descr=""/>
          <p:cNvPicPr/>
          <p:nvPr/>
        </p:nvPicPr>
        <p:blipFill>
          <a:blip r:embed="rId1"/>
          <a:stretch/>
        </p:blipFill>
        <p:spPr>
          <a:xfrm>
            <a:off x="5867280" y="4495680"/>
            <a:ext cx="3057480" cy="21891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867280" y="1447920"/>
            <a:ext cx="3276720" cy="292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152280" y="1600200"/>
          <a:ext cx="4343040" cy="2666880"/>
        </p:xfrm>
        <a:graphic>
          <a:graphicData uri="http://schemas.openxmlformats.org/drawingml/2006/table">
            <a:tbl>
              <a:tblPr/>
              <a:tblGrid>
                <a:gridCol w="2171520"/>
                <a:gridCol w="2171520"/>
              </a:tblGrid>
              <a:tr h="266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Mascu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enturou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gency towards scien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ra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chievou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ff3300"/>
                          </a:solidFill>
                          <a:uFillTx/>
                          <a:latin typeface="Arial"/>
                        </a:rPr>
                        <a:t>Non- Masculin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r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nsitiv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rturing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neak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ffffcc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ed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"/>
          <p:cNvSpPr/>
          <p:nvPr/>
        </p:nvSpPr>
        <p:spPr>
          <a:xfrm>
            <a:off x="304920" y="4952880"/>
            <a:ext cx="5333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Select which qualities you want to focus on and choose specific scenes from the film as evidence that supports your foc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8:07:35Z</dcterms:created>
  <dc:creator>SOCSD</dc:creator>
  <dc:description/>
  <dc:language>en-US</dc:language>
  <cp:lastModifiedBy> Josh Lungen</cp:lastModifiedBy>
  <dcterms:modified xsi:type="dcterms:W3CDTF">2009-10-17T04:53:32Z</dcterms:modified>
  <cp:revision>19</cp:revision>
  <dc:subject/>
  <dc:title>Depictions of Masculinity </dc:title>
</cp:coreProperties>
</file>